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4031-9989-4C6B-8DCD-EB34FB191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C6E3-31D8-48E8-8D71-22F4EBF10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2A8C-0276-4CA1-9665-5A6F1BDC4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CECF-5AAC-4855-BED6-D24EEC114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AB1FE-1762-4A93-AD7A-88810C6A24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AEEE-624D-4A58-933C-0A7D760757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C990-8363-4EE6-BD30-2DFC90D7AE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B778F-2560-4606-B743-9E17D2A4D2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8082-2EE0-4491-AFDE-0748A507A7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3CE4-A0D4-4C95-8C82-2E515B9039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1DD4D-3857-4052-BAE5-B5E7F9A767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C5E8-5643-4D0F-A9E2-9A34A2990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38C8-E216-4A85-AFF0-56EB3638A6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8971E-3D73-4E1F-867D-F36B17CD60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EA4A-9801-484F-80D1-1C735AC252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BAE6B-BF65-43DD-A8F8-0DD690CC8A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1D6F-B7C9-4389-95E9-5C6C875966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01B-4708-4C38-9851-9296C12142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434-B814-4C6F-8E11-4D1F546AD5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F82-BF9D-4818-A27F-F978F30ECA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359-2A4B-4CD2-81D4-8542213487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147-1355-4695-B09A-4843E0B511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87C6-496D-43E0-97D5-128EB50BE5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08E-747A-4F9A-AD09-C09E70F77C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637-1C3D-418D-9D0A-3E964CF7D9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6B3B-9183-44C4-AC4E-085A529504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0C1-D2D8-4C86-90EA-43EEA3BF7E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C848-F701-44D3-B5D1-0AFBD33663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11C-F69B-4F29-8DBC-D770A8410D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5974-8B1D-4223-B703-A51890F64F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08454-7A4C-48AF-926C-4C6752EEB0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C1EF7-7FBF-4938-BD7C-4825DFE4D8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9EA65-5E6C-4F37-B441-AB996DC61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896E-9082-4C8D-8085-3599653A2F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FA036-14B8-45F1-A9F0-EB1A7423DA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4DC0B-D004-49E3-97C9-F0E09A18072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E9DFB-4E07-463E-94F4-EE0B6E2AE3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6FE88-F307-490C-8B14-AC3A506AD9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A5FC2-7D3C-429C-87AF-8D9D5A310A1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3F858-CF05-4B62-9683-971231A3B8D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698C3-02AF-414B-BB84-6BA46114B6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B2825-B71D-4062-9512-334CE323B7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9D487-5075-4175-AFDE-7573BBDDF4D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EF989-3E59-4190-81F3-B75E6842D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D749-80E5-4D0E-832D-14478BE042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CD95B-A58D-4A58-8E6F-5F4E0C7D695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E15DC-D3B9-44B8-BF1F-5634886B4BB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F2D89-DB1B-4D01-B746-42B3B312917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E9C62-154B-4B8F-95A4-762C20B9DB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9DE66-5A0E-4119-9095-E5E8680E97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FB491-1F45-4FA5-9DBB-22DC39CDF42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8B541-1A0A-45E9-8101-1911D7048B8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01EA9-6FF5-4E00-85ED-030E86563BA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4505A-CF4E-4C96-9D3F-AB871B1AD9F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C47C4-663C-4C70-9AF2-F2B98D4A6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EB09E-4A4F-4B49-9DC4-CDECC03A6B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2173D-6E9E-4306-946B-E07DCDFD05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0E1E-1DA8-4FDB-A959-A63DDB9B64B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4653-12CB-432F-9FBC-6500C4436F3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26C3-6C38-4B75-8BFB-C9CB5FB9C32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769C-7286-43E0-8425-B36493A010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6D24-D6CC-4B6E-9D0C-97CD4F86A4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7C24-FD53-4989-BA6F-A3E729AC29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0BE1-4237-448D-8834-8A89EF5AD2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4623-DB84-4A5A-8A51-4AEBA7DC768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3DDB-5110-4053-856D-8FBFC53FE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A458-05F5-4ED5-A504-3D0B44F97EF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7960-4DAB-42B9-B091-8C54B8E14E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0975-A542-4C28-9DE8-6721769C68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2F8F-AEA2-4521-8F1A-5825D5C56E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7FA95-6A18-4980-9AF2-5A659AE8CDF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4CD6A-05EB-487F-B67C-3201A889C4B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B1647E-9442-4C93-A726-403730942EB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F86C3-F3E3-44D1-A2EA-AF37992482B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3AC701-B0BA-42FB-B6D8-D2A142CC1BC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7E19C-7772-4D27-9C18-6D2604F1AD7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21432-4581-4438-8CD4-92F22D3AF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B5FD-4E00-4113-B982-5074315E09C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BD5BA-4863-4554-AEEB-2908A78A1C8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BAA6C1-BB3F-4A50-BAE0-28468EEEDB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F31DDB-5836-45F1-9CF3-421FA86B518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B6F54-6D8E-4341-8E2A-AA7C398649E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4FDCA-330A-4810-8AB3-CD3CC8D7A58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74057-B628-479C-8820-51F5A273BFE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F4DE8B-51A8-442A-A3FA-29EBEAF55D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9027C7-87E5-4814-A74D-52B1F174B7E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4F03F-ECD5-4882-8510-F97C0EC34C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73ABB-731B-4973-A048-603A95ACA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8E9A-B722-46B4-847A-AB97BB81A32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C18DD-38C8-4D9A-A5DB-509490CD0B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78B3D-2A19-404D-9ED7-2213B4FC4E7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78D49-3686-40C5-B06D-2C425477C75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00969-8EDA-4AD3-8000-7F20B51A5F1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7CF2B-1AD9-4105-A441-CE81A76B95D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B20F7-6E96-40D1-8C0A-9CFA261273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C8507E-7727-41A6-AE5D-1474ED870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3ecf3"/>
                </a:solidFill>
                <a:latin typeface="Lucida Grande"/>
              </a:rPr>
              <a:t>Click to edit the title text format</a:t>
            </a:r>
            <a:endParaRPr b="1" lang="en-US" sz="56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32274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1" marL="24660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2" marL="49356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3" marL="74052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4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5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lvl="6" marL="987480" algn="r">
              <a:spcBef>
                <a:spcPts val="601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0129-43A6-4974-8331-3EAC017878C8}" type="slidenum">
              <a: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768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1" lang="en-US" sz="2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9120" y="2827440"/>
            <a:ext cx="2210040" cy="2179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1" marL="498960" indent="-205560">
              <a:spcBef>
                <a:spcPts val="2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2" marL="727200" indent="-205560">
              <a:spcBef>
                <a:spcPts val="2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3" marL="954000" indent="-173880">
              <a:spcBef>
                <a:spcPts val="2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4" marL="1181880" indent="-173880">
              <a:spcBef>
                <a:spcPts val="2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5" marL="1181880" indent="-173880">
              <a:spcBef>
                <a:spcPts val="2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  <a:p>
            <a:pPr lvl="6" marL="1181880" indent="-173880">
              <a:spcBef>
                <a:spcPts val="2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7230-4048-49E8-9A4C-0CEF4465A470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876240" indent="-24768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149480" indent="-20952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424160" indent="-20988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424160" indent="-20988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C718-54F8-4011-9EF3-987005F97A55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Num" idx="4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5C25-0408-4D78-B8B5-DB04D8F378E8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639720" indent="-2476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914400" indent="-247680">
              <a:spcBef>
                <a:spcPts val="499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461960" indent="-209520">
              <a:spcBef>
                <a:spcPts val="499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461960" indent="-209520">
              <a:spcBef>
                <a:spcPts val="499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1880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1" marL="547200" indent="-225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2" marL="797040" indent="-225360">
              <a:spcBef>
                <a:spcPts val="601"/>
              </a:spcBef>
              <a:buClr>
                <a:srgbClr val="009dd9"/>
              </a:buClr>
              <a:buSzPct val="69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3" marL="1045800" indent="-190440">
              <a:spcBef>
                <a:spcPts val="601"/>
              </a:spcBef>
              <a:buClr>
                <a:srgbClr val="0bd0d9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4" marL="1295640" indent="-190800">
              <a:spcBef>
                <a:spcPts val="601"/>
              </a:spcBef>
              <a:buClr>
                <a:srgbClr val="10cf9b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5" marL="1295640" indent="-19080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lvl="6" marL="1295640" indent="-190800">
              <a:spcBef>
                <a:spcPts val="601"/>
              </a:spcBef>
              <a:buClr>
                <a:srgbClr val="000000"/>
              </a:buClr>
              <a:buSzPct val="6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5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76E4-B1CE-4728-ADB8-B8BBAF879C16}" type="slidenum">
              <a:rPr b="0" lang="en-US" sz="1200" spc="-1" strike="noStrike">
                <a:solidFill>
                  <a:srgbClr val="035c75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6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37A5-9C64-4B04-A43D-0688DA6123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237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0280" y="-360"/>
            <a:ext cx="777240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4efc5"/>
                </a:solidFill>
                <a:latin typeface="Lucida Grande"/>
              </a:rPr>
              <a:t>Click to edit the title text format</a:t>
            </a:r>
            <a:endParaRPr b="1" lang="en-US" sz="5600" spc="-1" strike="noStrike">
              <a:solidFill>
                <a:srgbClr val="54efc5"/>
              </a:solidFill>
              <a:latin typeface="Lucida Gran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530280" y="2703240"/>
            <a:ext cx="7772400" cy="150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2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1" marL="18396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2" marL="32652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3" marL="48852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4" marL="63108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5" marL="63108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  <a:p>
            <a:pPr lvl="6" marL="631080">
              <a:spcBef>
                <a:spcPts val="499"/>
              </a:spcBef>
              <a:buClr>
                <a:srgbClr val="ffffff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Grande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7"/>
          </p:nvPr>
        </p:nvSpPr>
        <p:spPr>
          <a:xfrm>
            <a:off x="8480160" y="6530760"/>
            <a:ext cx="20628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31B9-0957-49EB-9D34-7AF511713284}" type="slidenum">
              <a:rPr b="0" lang="en-US" sz="1200" spc="-1" strike="noStrike">
                <a:solidFill>
                  <a:srgbClr val="d0e9ed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4f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1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1" marL="1717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2" marL="35892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3" marL="54648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4" marL="734040" algn="ctr">
              <a:spcBef>
                <a:spcPts val="799"/>
              </a:spcBef>
              <a:buClr>
                <a:srgbClr val="878787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5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  <a:p>
            <a:pPr lvl="6" marL="734040" algn="ctr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8787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878787"/>
              </a:solidFill>
              <a:latin typeface="Lucida Gran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8"/>
          </p:nvPr>
        </p:nvSpPr>
        <p:spPr>
          <a:xfrm>
            <a:off x="8403840" y="6454440"/>
            <a:ext cx="282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DC98-A7A8-44CF-A741-312368374920}" type="slidenum">
              <a:rPr b="0" lang="en-US" sz="1200" spc="-1" strike="noStrike">
                <a:solidFill>
                  <a:srgbClr val="878787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d0fe"/>
            </a:gs>
            <a:gs pos="100000">
              <a:srgbClr val="37d3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20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016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53ecf3"/>
                </a:solidFill>
                <a:latin typeface="Lucida Grande"/>
              </a:rPr>
              <a:t>Causes of the crusades</a:t>
            </a:r>
            <a:endParaRPr b="1" lang="en-US" sz="5600" spc="-1" strike="noStrike">
              <a:solidFill>
                <a:srgbClr val="53ecf3"/>
              </a:solidFill>
              <a:latin typeface="Lucida Gran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3160" y="322740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 flipH="1" rot="11220000">
            <a:off x="3164040" y="110808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 flipH="1" rot="11220000">
            <a:off x="8002080" y="535932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 flipH="1" rot="10800000">
            <a:off x="-9360" y="5816160"/>
            <a:ext cx="9162720" cy="10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c5ce">
                  <a:alpha val="55294"/>
                </a:srgbClr>
              </a:gs>
              <a:gs pos="100000">
                <a:srgbClr val="00729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 flipH="1" rot="10800000">
            <a:off x="4380480" y="6249600"/>
            <a:ext cx="4762440" cy="60804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89be">
                  <a:alpha val="45098"/>
                </a:srgbClr>
              </a:gs>
              <a:gs pos="100000">
                <a:srgbClr val="009fa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768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Lucida Grande"/>
              </a:rPr>
              <a:t>A letter from byzantine…</a:t>
            </a:r>
            <a:endParaRPr b="1" lang="en-US" sz="2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2827080"/>
            <a:ext cx="2210040" cy="38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ith the massacre Byzantine Emperor Alexis sends a letter to Pope Urban Asking for Help… he will regret this later.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261960" y="931680"/>
            <a:ext cx="5062320" cy="4465440"/>
            <a:chOff x="3261960" y="931680"/>
            <a:chExt cx="5062320" cy="4465440"/>
          </a:xfrm>
        </p:grpSpPr>
        <p:sp>
          <p:nvSpPr>
            <p:cNvPr id="414" name=""/>
            <p:cNvSpPr/>
            <p:nvPr/>
          </p:nvSpPr>
          <p:spPr>
            <a:xfrm rot="420000">
              <a:off x="3484080" y="1198080"/>
              <a:ext cx="4617720" cy="393192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2"/>
            <a:srcRect l="0" t="11781" r="0" b="11781"/>
            <a:stretch/>
          </p:blipFill>
          <p:spPr>
            <a:xfrm rot="420000">
              <a:off x="3484080" y="1198080"/>
              <a:ext cx="4617720" cy="3931920"/>
            </a:xfrm>
            <a:prstGeom prst="rect">
              <a:avLst/>
            </a:prstGeom>
            <a:ln cap="rnd" w="3240">
              <a:solidFill>
                <a:srgbClr val="c0c0c0"/>
              </a:solidFill>
              <a:round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ope’s Response(column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b00"/>
                </a:solidFill>
                <a:latin typeface="Lucida Grande"/>
                <a:ea typeface="Lucida Grande"/>
              </a:rPr>
              <a:t>Pope Urban II called for the defeat of the Turks, returning the Holy Land to the Christ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4000680" cy="36860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533520" y="6095880"/>
            <a:ext cx="244440" cy="24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423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09480" y="19080"/>
            <a:ext cx="762012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431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4" name=""/>
            <p:cNvSpPr/>
            <p:nvPr/>
          </p:nvSpPr>
          <p:spPr>
            <a:xfrm>
              <a:off x="0" y="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3348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urks Kill 3k Christians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6696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Merchants &amp; Pope want Trade Routes and food 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0224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European nobles fighting among themselve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3572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0" y="62946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444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7" name=""/>
            <p:cNvSpPr/>
            <p:nvPr/>
          </p:nvSpPr>
          <p:spPr>
            <a:xfrm>
              <a:off x="0" y="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3348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urks Kill 3k Christians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6696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Merchants &amp; Pope want Trade Routes and Food 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0224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European nobles fighting among themselves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3572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Regain Control of the “Holy Land”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62946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27200" y="61920"/>
            <a:ext cx="76881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40680" tIns="0" bIns="0" anchor="t">
            <a:noAutofit/>
          </a:bodyPr>
          <a:p>
            <a:pPr marL="3960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Why all the figh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2040" y="950760"/>
            <a:ext cx="33019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rial"/>
                <a:ea typeface="Arial"/>
              </a:rPr>
              <a:t>Christians, Muslims, and Jews all believe that the city of Jerusalem is a holy place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rial Bold"/>
                <a:ea typeface="Arial Bold"/>
              </a:rPr>
              <a:t>To Muslims it was where Muhammad ascended into Heaven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rial Bold"/>
                <a:ea typeface="Arial Bold"/>
              </a:rPr>
              <a:t>To Jews it was the promised land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rial Bold"/>
                <a:ea typeface="Arial Bold"/>
              </a:rPr>
              <a:t>To Christians it was where Jesus was crucified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960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772080" y="1981080"/>
            <a:ext cx="53719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 flipH="1" rot="11220000">
            <a:off x="3164040" y="110808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"/>
          <p:cNvSpPr/>
          <p:nvPr/>
        </p:nvSpPr>
        <p:spPr>
          <a:xfrm flipH="1" rot="11220000">
            <a:off x="8002080" y="535932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"/>
          <p:cNvSpPr/>
          <p:nvPr/>
        </p:nvSpPr>
        <p:spPr>
          <a:xfrm flipH="1" rot="10800000">
            <a:off x="-9360" y="5816160"/>
            <a:ext cx="9162720" cy="10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c5ce">
                  <a:alpha val="55294"/>
                </a:srgbClr>
              </a:gs>
              <a:gs pos="100000">
                <a:srgbClr val="00729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"/>
          <p:cNvSpPr/>
          <p:nvPr/>
        </p:nvSpPr>
        <p:spPr>
          <a:xfrm flipH="1" rot="10800000">
            <a:off x="4380480" y="6249600"/>
            <a:ext cx="4762440" cy="60804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89be">
                  <a:alpha val="45098"/>
                </a:srgbClr>
              </a:gs>
              <a:gs pos="100000">
                <a:srgbClr val="009fa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8320" y="9684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cc"/>
                </a:solidFill>
                <a:latin typeface="Lucida Grande"/>
              </a:rPr>
              <a:t>What were the Crusades?</a:t>
            </a:r>
            <a:endParaRPr b="1" lang="en-US" sz="2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2827080"/>
            <a:ext cx="2210040" cy="389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90b00"/>
                </a:solidFill>
                <a:uFillTx/>
                <a:latin typeface="Lucida Grande"/>
              </a:rPr>
              <a:t>A religious war between Christians  and Muslims for the control of “the Holy Land.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261960" y="931680"/>
            <a:ext cx="5062320" cy="4465440"/>
            <a:chOff x="3261960" y="931680"/>
            <a:chExt cx="5062320" cy="4465440"/>
          </a:xfrm>
        </p:grpSpPr>
        <p:sp>
          <p:nvSpPr>
            <p:cNvPr id="331" name=""/>
            <p:cNvSpPr/>
            <p:nvPr/>
          </p:nvSpPr>
          <p:spPr>
            <a:xfrm rot="420000">
              <a:off x="3484080" y="1198080"/>
              <a:ext cx="4617720" cy="3931920"/>
            </a:xfrm>
            <a:prstGeom prst="rect">
              <a:avLst/>
            </a:prstGeom>
            <a:solidFill>
              <a:srgbClr val="db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2"/>
            <a:srcRect l="17456" t="0" r="17456" b="0"/>
            <a:stretch/>
          </p:blipFill>
          <p:spPr>
            <a:xfrm rot="420000">
              <a:off x="3484080" y="1198080"/>
              <a:ext cx="4617720" cy="3931920"/>
            </a:xfrm>
            <a:prstGeom prst="rect">
              <a:avLst/>
            </a:prstGeom>
            <a:ln cap="rnd" w="3240">
              <a:solidFill>
                <a:srgbClr val="c0c0c0"/>
              </a:solidFill>
              <a:round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36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6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dcc"/>
                </a:solidFill>
                <a:latin typeface="Lucida Grande"/>
              </a:rPr>
              <a:t>What is a Crusade?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</a:rPr>
              <a:t>any vigorous, aggressive movement for the defense or advancement of an idea, cause, etc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90b00"/>
                </a:solidFill>
                <a:latin typeface="Lucida Grande"/>
              </a:rPr>
              <a:t>A crusade is also a war declared by a Pope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How might a Crusade benefit?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Pope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Knight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Lor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A Merchant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-2476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f you were Muslim you would call the crusades the Frankish invasion, after the group of people invading your land.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01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43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dcc"/>
                </a:solidFill>
                <a:latin typeface="Lucida Grande"/>
              </a:rPr>
              <a:t>Before the Crusades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Muslims allowed Christian pilgrims to Jerusalem because it brought new sources of revenue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2712"/>
                </a:solidFill>
                <a:latin typeface="Lucida Grande"/>
              </a:rPr>
              <a:t>Pilgrimages were a way of being forgiven for your sins.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Violence is ripping apart Europe as Nobles are fighting among themselves.(Column 4)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Famine beginning to spread across the Continent as mini ice age slows crop production(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50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749160" y="863640"/>
            <a:ext cx="7620120" cy="5333760"/>
            <a:chOff x="749160" y="863640"/>
            <a:chExt cx="7620120" cy="5333760"/>
          </a:xfrm>
        </p:grpSpPr>
        <p:sp>
          <p:nvSpPr>
            <p:cNvPr id="353" name=""/>
            <p:cNvSpPr/>
            <p:nvPr/>
          </p:nvSpPr>
          <p:spPr>
            <a:xfrm>
              <a:off x="749160" y="863640"/>
              <a:ext cx="7620120" cy="1546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9160" y="2432520"/>
              <a:ext cx="15048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76280" y="2432520"/>
              <a:ext cx="15066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05200" y="2432520"/>
              <a:ext cx="15066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3760" y="2432520"/>
              <a:ext cx="15066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62680" y="2432520"/>
              <a:ext cx="1504800" cy="33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49160" y="5763960"/>
              <a:ext cx="7620120" cy="43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63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2600" y="12600"/>
            <a:ext cx="9144000" cy="6858000"/>
            <a:chOff x="12600" y="12600"/>
            <a:chExt cx="9144000" cy="6858000"/>
          </a:xfrm>
        </p:grpSpPr>
        <p:sp>
          <p:nvSpPr>
            <p:cNvPr id="366" name=""/>
            <p:cNvSpPr/>
            <p:nvPr/>
          </p:nvSpPr>
          <p:spPr>
            <a:xfrm>
              <a:off x="12600" y="1260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600" y="20286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46080" y="20286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79560" y="20286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514840" y="20286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48320" y="20286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600" y="63072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76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Lucida Grande"/>
              </a:rPr>
              <a:t>Seljuk Turks </a:t>
            </a:r>
            <a:endParaRPr b="0" lang="en-US" sz="5000" spc="-1" strike="noStrike">
              <a:solidFill>
                <a:srgbClr val="04617b"/>
              </a:solidFill>
              <a:latin typeface="Lucida Gran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1880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Persian Muslims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Did not allow Christian Pilgrims into Jerusalem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90b00"/>
                </a:solidFill>
                <a:latin typeface="Lucida Grande"/>
              </a:rPr>
              <a:t>Persecuted Christians who were there.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4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Grande"/>
              </a:rPr>
              <a:t>3000 Christians are massacred </a:t>
            </a:r>
            <a:endParaRPr b="0" lang="en-US" sz="2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572000" y="1905120"/>
            <a:ext cx="4338720" cy="31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84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87" name=""/>
            <p:cNvSpPr/>
            <p:nvPr/>
          </p:nvSpPr>
          <p:spPr>
            <a:xfrm>
              <a:off x="0" y="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3348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urks Kill 3k Christians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6696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0224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3572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62946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-9360" y="-6480"/>
            <a:ext cx="9162720" cy="104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" y="66"/>
                </a:moveTo>
                <a:lnTo>
                  <a:pt x="9513" y="0"/>
                </a:lnTo>
                <a:cubicBezTo>
                  <a:pt x="10276" y="3326"/>
                  <a:pt x="14325" y="12084"/>
                  <a:pt x="16368" y="12084"/>
                </a:cubicBezTo>
                <a:cubicBezTo>
                  <a:pt x="18412" y="12084"/>
                  <a:pt x="20679" y="5005"/>
                  <a:pt x="21578" y="1811"/>
                </a:cubicBezTo>
                <a:lnTo>
                  <a:pt x="21600" y="7013"/>
                </a:lnTo>
                <a:cubicBezTo>
                  <a:pt x="21218" y="8462"/>
                  <a:pt x="18771" y="14521"/>
                  <a:pt x="16099" y="14455"/>
                </a:cubicBezTo>
                <a:cubicBezTo>
                  <a:pt x="13427" y="14389"/>
                  <a:pt x="8252" y="5433"/>
                  <a:pt x="5568" y="6618"/>
                </a:cubicBezTo>
                <a:cubicBezTo>
                  <a:pt x="2807" y="6882"/>
                  <a:pt x="1010" y="15871"/>
                  <a:pt x="0" y="21600"/>
                </a:cubicBezTo>
                <a:lnTo>
                  <a:pt x="22" y="66"/>
                </a:lnTo>
                <a:close/>
                <a:moveTo>
                  <a:pt x="22" y="66"/>
                </a:moveTo>
              </a:path>
            </a:pathLst>
          </a:custGeom>
          <a:gradFill rotWithShape="0">
            <a:gsLst>
              <a:gs pos="0">
                <a:srgbClr val="00729e">
                  <a:alpha val="45098"/>
                </a:srgbClr>
              </a:gs>
              <a:gs pos="100000">
                <a:srgbClr val="00c5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4381560" y="-6480"/>
            <a:ext cx="4762440" cy="604800"/>
          </a:xfrm>
          <a:custGeom>
            <a:avLst/>
            <a:gdLst/>
            <a:ahLst/>
            <a:rect l="l" t="t" r="r" b="b"/>
            <a:pathLst>
              <a:path w="21600" h="20552">
                <a:moveTo>
                  <a:pt x="0" y="0"/>
                </a:moveTo>
                <a:cubicBezTo>
                  <a:pt x="1253" y="3703"/>
                  <a:pt x="8410" y="19349"/>
                  <a:pt x="12010" y="20475"/>
                </a:cubicBezTo>
                <a:cubicBezTo>
                  <a:pt x="15610" y="21600"/>
                  <a:pt x="20002" y="10128"/>
                  <a:pt x="21600" y="6752"/>
                </a:cubicBezTo>
                <a:lnTo>
                  <a:pt x="21600" y="218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gradFill rotWithShape="0">
            <a:gsLst>
              <a:gs pos="0">
                <a:srgbClr val="009fa6">
                  <a:alpha val="30196"/>
                </a:srgbClr>
              </a:gs>
              <a:gs pos="100000">
                <a:srgbClr val="0089be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-50760" y="-255240"/>
            <a:ext cx="9235800" cy="1576800"/>
            <a:chOff x="-50760" y="-255240"/>
            <a:chExt cx="9235800" cy="1576800"/>
          </a:xfrm>
        </p:grpSpPr>
        <p:sp>
          <p:nvSpPr>
            <p:cNvPr id="397" name=""/>
            <p:cNvSpPr/>
            <p:nvPr/>
          </p:nvSpPr>
          <p:spPr>
            <a:xfrm rot="21420000">
              <a:off x="-28080" y="-15840"/>
              <a:ext cx="9178200" cy="1098000"/>
            </a:xfrm>
            <a:custGeom>
              <a:avLst/>
              <a:gdLst/>
              <a:ahLst/>
              <a:rect l="l" t="t" r="r" b="b"/>
              <a:pathLst>
                <a:path w="21600" h="20680">
                  <a:moveTo>
                    <a:pt x="0" y="19778"/>
                  </a:moveTo>
                  <a:cubicBezTo>
                    <a:pt x="1055" y="15110"/>
                    <a:pt x="3454" y="5630"/>
                    <a:pt x="6017" y="5774"/>
                  </a:cubicBezTo>
                  <a:cubicBezTo>
                    <a:pt x="8581" y="5917"/>
                    <a:pt x="12783" y="21600"/>
                    <a:pt x="15380" y="20638"/>
                  </a:cubicBezTo>
                  <a:cubicBezTo>
                    <a:pt x="17978" y="19675"/>
                    <a:pt x="20305" y="4300"/>
                    <a:pt x="21600" y="0"/>
                  </a:cubicBezTo>
                </a:path>
              </a:pathLst>
            </a:custGeom>
            <a:noFill/>
            <a:ln w="10800">
              <a:solidFill>
                <a:srgbClr val="04a0be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1420000">
              <a:off x="-22680" y="115920"/>
              <a:ext cx="9190800" cy="892800"/>
            </a:xfrm>
            <a:custGeom>
              <a:avLst/>
              <a:gdLst/>
              <a:ahLst/>
              <a:rect l="l" t="t" r="r" b="b"/>
              <a:pathLst>
                <a:path w="21600" h="20682">
                  <a:moveTo>
                    <a:pt x="0" y="18514"/>
                  </a:moveTo>
                  <a:cubicBezTo>
                    <a:pt x="1023" y="16364"/>
                    <a:pt x="3563" y="5413"/>
                    <a:pt x="6136" y="5767"/>
                  </a:cubicBezTo>
                  <a:cubicBezTo>
                    <a:pt x="8710" y="6121"/>
                    <a:pt x="12864" y="21600"/>
                    <a:pt x="15441" y="20639"/>
                  </a:cubicBezTo>
                  <a:cubicBezTo>
                    <a:pt x="18019" y="19678"/>
                    <a:pt x="20319" y="4300"/>
                    <a:pt x="21600" y="0"/>
                  </a:cubicBezTo>
                </a:path>
              </a:pathLst>
            </a:custGeom>
            <a:noFill/>
            <a:ln w="9360">
              <a:solidFill>
                <a:srgbClr val="08b6ba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0" name=""/>
            <p:cNvSpPr/>
            <p:nvPr/>
          </p:nvSpPr>
          <p:spPr>
            <a:xfrm>
              <a:off x="0" y="0"/>
              <a:ext cx="9144000" cy="1987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Causes of the Crusades</a:t>
              </a:r>
              <a:endParaRPr b="0" lang="en-US" sz="31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Seljuk Turks invade Jerusalem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348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urks Kill 3k Christians 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6696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Pope wants Trade Routes and Turks defeated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2240" y="2016000"/>
              <a:ext cx="18064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335720" y="2016000"/>
              <a:ext cx="1808280" cy="4251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?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294600"/>
              <a:ext cx="9144000" cy="563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  <a:effectLst>
              <a:outerShdw dist="38160" dir="5400000" blurRad="0" rotWithShape="0">
                <a:srgbClr val="000000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nife Von Ludwin</dc:creator>
  <dc:description/>
  <dc:language>en-US</dc:language>
  <cp:lastModifiedBy/>
  <cp:revision>0</cp:revision>
  <dc:subject/>
  <dc:title>Causes of the crusades</dc:title>
</cp:coreProperties>
</file>